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9569-2E7D-4135-9CA2-CFA92ABE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B0FF-F639-4428-ABCE-0FEAF0C4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4997-E3B3-48CC-8332-34280BAD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6C97-B2B2-4D4B-A306-8C2D866E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081-54B8-47F7-A2C5-EA079916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3E2-9884-47CD-B0AD-653E38AC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FE0-42C2-44B1-9C3E-73C9692C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94BA-0485-40F2-ABBA-3015557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63FE-4190-4179-81C7-EEF7661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F953-F9B3-4237-9434-3EA79156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CB70-2EC6-46F4-8A21-E426BFA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582C-619E-46F8-86FA-A8E0CE2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B82A-3258-4C73-BE57-0AE5FE2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284A-02DB-44F1-A85C-7FD62A4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DD5C-E415-44B6-B2B0-E4EC6B1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CBFE-291B-441D-B236-824584DA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EB9-F8E1-4081-93A4-5B09C2F3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636B-8742-410D-9D48-DBE8AEF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542F-82FC-4016-A7C0-29CE9D5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BA94-7E0A-4348-81F0-F7236FE5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B666-F00B-4164-9F28-9B9FAB5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63E0-B816-4E41-AF4B-1E91C1C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A495-BED5-4AFB-AAE6-1B1061E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20A4-0A1C-44E4-B901-9F29031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0C2E-E521-4CC7-A56B-2B286212D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A86-8F68-4AEC-817A-2E601772A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blems with Subject-Verb Agreemen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Subjects and Verbs Don’t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w, determine whether the subject is singular (one person, place, or thing) or plural (more than one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(Jeff)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ing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Pl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both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(Jeff)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Sing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Pl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both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, fix the verb by matching it to the subject of the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(Jeff) is third-person singular, which of the following verbs is corr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i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(Jeff) is third-person singular, which of the following verbs is corr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i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bi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ich verb would be correct in the following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tells him not to bite his n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e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ich verb would be correct in the following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tells him not to bite his n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t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e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error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the five trouble spots that often signal subject-verb agreement probl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 is 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ds come between the subject and the ver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entence has a compound subj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is an indefinite pro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 comes befor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 The verb is a form of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follow the rules for forming singular and plural verbs; they ar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verbs can cause problems for writers who in conversation use the same form in all case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 do the cleaning; they do the cleaning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lso sometimes use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stead of the correct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he be on vacation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905120"/>
          <a:ext cx="8229600" cy="3565440"/>
        </p:xfrm>
        <a:graphic>
          <a:graphicData uri="http://schemas.openxmlformats.org/drawingml/2006/table">
            <a:tbl>
              <a:tblPr/>
              <a:tblGrid>
                <a:gridCol w="1828800"/>
                <a:gridCol w="2743200"/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133720"/>
          <a:ext cx="8229600" cy="3417840"/>
        </p:xfrm>
        <a:graphic>
          <a:graphicData uri="http://schemas.openxmlformats.org/drawingml/2006/table">
            <a:tbl>
              <a:tblPr/>
              <a:tblGrid>
                <a:gridCol w="1981080"/>
                <a:gridCol w="289584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subject-verb agreement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ny sentence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ubject and the verb must mat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or agree—in numb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one person, place, or thing), the verb must also be singula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more than one), the verb must also be plu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286000"/>
          <a:ext cx="8229600" cy="326556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209680"/>
          <a:ext cx="8229600" cy="2884320"/>
        </p:xfrm>
        <a:graphic>
          <a:graphicData uri="http://schemas.openxmlformats.org/drawingml/2006/table">
            <a:tbl>
              <a:tblPr/>
              <a:tblGrid>
                <a:gridCol w="1981080"/>
                <a:gridCol w="2971800"/>
                <a:gridCol w="32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do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do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is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find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in the first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second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or thir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/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rst pers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by matching it to the form of the subject (first person, singular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 am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is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re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by matching it to the form of the subject (first person, singular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 am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is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re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of my friends say that my biggest proble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I wast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of my friends say that my biggest proble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I wast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friend Jocely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word for it: procrastin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friend Jocely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word for it: procrastin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Words com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subject and verb aren’t right next to each other, it is more difficult to find them and to make sure they agre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often, eith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positional phra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cl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mes between the subject and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ngula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kydi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mp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t of the airpla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u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kydiv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m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t of the airpla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666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positional phras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ositional phra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rts with a preposition and ends with a noun or pronou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took a na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my b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woke u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fter dinn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ject of a sentence is never in a prepositional phra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are looking for the subject of a sentence, you can cross out any prepositional phrases. This strategy should help you to find the real subject and decide whether it agrees with the ver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y are separated by a prepositional phra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uden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prepositional phr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lu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97180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 person plural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kn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 person plural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kn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pendent claus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clau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a subject and a verb, but it does not express a complete though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a dependent clause comes between the subject and the verb, it usually starts with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o, whose, whom, that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i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a sentence is never a dependent clause. When you are looking for the subject of a sentence, you can cross out any dependent clau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y are separated by a dependent clau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who is one of my brothers, (distrac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/distracts) me whenever I try to stu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dependent cla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5909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-person singular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ve, who is one of my brothers, (distract /distracts) me whenever I try to stu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di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dis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-person singular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ve, who is one of my brothers, (distract /distracts) me whenever I try to stud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di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dis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 The sentence has a compound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ound subjec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wo (or more)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, or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wo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y combine to become a plural subject, and the verb must be plural to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wo subjects are separated by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y are not combined. The verb should agree with whichever subject is closer to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in a sentence with a compound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ocely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rcle the word between the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Does that word join the subjects to make them plural or keep them separate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Keeps them separ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that is closer to the verb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1752480"/>
            <a:ext cx="45720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erb Ending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r verbs (with forms that follow standard English patterns) have two forms in the present tense: one that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one that has no end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rd-person subjec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, she, it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singular nouns always use the form that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-person subject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second-person subject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and plural subjects use the form with no ending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 that is closer to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Jocelyn or Dan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el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 that is closer to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Jocelyn or Dan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hel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The subject is an indefinite pronou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finite pronou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s a general person, place, or thing or a general group of people, places, or thing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, an indefinite pronoun is followed by a prepositional phrase or dependent clause. Remember that the verb of a sentence must agree with the subject of the sentence, and the subject of a sentence 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ever in a prepositional phrase or dependent cl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finite pronouns are often singular, though there are some excep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ways singula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other, anybody, anyone, anything, each (of), either (of), everybody, everyone, everything, much, neither (of), nobody, no one, nothing, one (of), somebody, someone,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y be singular or plu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, any, none, s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subject is an indefinite pronou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prepositional phrase or dependent clause that follow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ost sentences, the subject comes before the verb. Two kinds of sentences often reverse the usual subject-verb order: questions and sentences that begin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se two types of sentences, you need to check for errors in subject-verb agreem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questions, the verb or part of the verb comes befor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find the subject and verb, you can turn the question around as if you were going to answer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is the theater? / The theater i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re you leaving? / You are leav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entences that begin with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ther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a sentence begins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 subject often follows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the sentence around to find the subject and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s your purse. / Your purse is he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re the car keys. / The car keys are the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erb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676520"/>
          <a:ext cx="9144000" cy="3898800"/>
        </p:xfrm>
        <a:graphic>
          <a:graphicData uri="http://schemas.openxmlformats.org/drawingml/2006/table">
            <a:tbl>
              <a:tblPr/>
              <a:tblGrid>
                <a:gridCol w="1981080"/>
                <a:gridCol w="2895840"/>
                <a:gridCol w="114300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(she, it)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e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 end in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e and Alice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entence is a question, turn the question into a statement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subject in the new sentence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eat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entence begins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urn it around: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subject in the new sentence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l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lur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eac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us a quiz every we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i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eac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us a quiz every we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i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g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wo copies of the articl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wo copies of the articl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problem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locate the subject of the sentence. Ask yourself, who or what is the subject abou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following sentence, what is the subjec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Je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fingernai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rtic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ood ideas for saving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h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rtic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ood ideas for saving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h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cars park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cars park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fill out tax for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l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l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li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fill out tax for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l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l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li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thletes who qualify for the rac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-shi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o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e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thletes who qualify for the rac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-shi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o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e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ither Betty nor the childr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a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s ea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ither Betty nor the childr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a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s ea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problem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following sentence, what is the subjec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Je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fingernai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, determine whether the subject refers to the first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/w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the secon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or the thir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/she/it/the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this sentence (Jeff) is in th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First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econ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r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this sentence (Jeff) is in th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First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econ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Thir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6:27:44Z</dcterms:created>
  <dc:creator>BSM</dc:creator>
  <dc:description/>
  <dc:language>en-US</dc:language>
  <cp:lastModifiedBy>BSM</cp:lastModifiedBy>
  <dcterms:modified xsi:type="dcterms:W3CDTF">2008-02-14T16:30:11Z</dcterms:modified>
  <cp:revision>172</cp:revision>
  <dc:subject/>
  <dc:title>Problems with Subject-Verb Agreement</dc:title>
</cp:coreProperties>
</file>